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55B-50C3-4DB5-88DF-CEF4CB5A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D8E-6851-437B-9839-552DCDD8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3C2-2930-4056-9E0C-067B2912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48C-2C09-4E9E-B6C4-CAD4465D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3FE-5A8D-45E4-951F-10A8DBDB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382-EAD6-4441-9150-3355631D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C4A-13BF-47F5-B1F9-3C588915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1A7-F833-49DB-868C-CB0D292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221-4BB4-4154-9796-251D31D7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706-883C-4200-AEEC-426119F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2F6-82A8-4AF2-B245-F637AD3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036-1F40-41CB-AB97-EE179F6A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11FB-45BB-4785-84BD-E971CC042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03760" y="3505320"/>
            <a:ext cx="2266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4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771480"/>
            <a:ext cx="617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34000" y="1143000"/>
            <a:ext cx="4410000" cy="37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1339920"/>
            <a:ext cx="38862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289320" cy="358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695680" cy="4124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7:22:38Z</dcterms:created>
  <dc:creator>Patrick J. Mooney</dc:creator>
  <dc:description/>
  <dc:language>en-US</dc:language>
  <cp:lastModifiedBy>Patrick J. Mooney</cp:lastModifiedBy>
  <dcterms:modified xsi:type="dcterms:W3CDTF">2011-04-19T02:17:39Z</dcterms:modified>
  <cp:revision>6</cp:revision>
  <dc:subject/>
  <dc:title>Slide 1</dc:title>
</cp:coreProperties>
</file>